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013-1270-4E3C-8113-52353A41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E99-863E-42FF-AF0D-BB55974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850-C15E-4937-B207-6AB566A2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D3E-F6C9-4EE4-9F62-23AEA946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A99-C9ED-4EA5-A704-08DF7D3F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483-1ADD-4EC8-94CE-062D87CB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473-1D99-438E-83CA-D2318D14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5B6-979C-4BF0-A962-E39FD0E0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475-8528-4CEF-A12E-5D88C4E1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355-9AAB-4CD6-A840-E7D4D3E2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CD3-3801-4AAB-8DB0-939FCCE4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9EC-6336-409D-AF2E-882B6B6F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ABD-45C4-4E85-BED1-D561D493E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3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COTTISH  INDOOR  ASSOC.        SCOTTISH  INDOOR  ASSOC.                      ABERDEEN                                    ABERDEEN                                      ABERDEEN  25TH                                  ALLAND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     AYR                                           BAINFIELD                                     BALBARDIE                                         BLANTYRE                                    BLANTYRE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N  ACCORD                                    BUCHAN                                   CASTLEMILK                                      CLYDEBANK                                       COATBRIDGE                                           COW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73240" y="191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8520" y="1628640"/>
            <a:ext cx="12430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243080" cy="110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28880" y="26028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13240" y="26028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952880" y="260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608880" y="11592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193240" y="260280"/>
            <a:ext cx="95076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24520" y="170028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608880" y="148428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121600" y="1844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31800" y="3645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73240" y="342900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440160" y="3645000"/>
            <a:ext cx="140796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097600" y="364500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608880" y="3284640"/>
            <a:ext cx="127944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193240" y="350028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88880" y="5300640"/>
            <a:ext cx="12621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073240" y="5445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097600" y="544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681960" y="5445000"/>
            <a:ext cx="116964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193240" y="5084640"/>
            <a:ext cx="1315800" cy="14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488880" y="1916280"/>
            <a:ext cx="1082880" cy="113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        ARBROATH                          ARBROATH  25TH                                ARDROSSAN                                          ARDROSSAN                                AUCHINL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0:23:11Z</dcterms:created>
  <dc:creator>John Young</dc:creator>
  <dc:description/>
  <dc:language>en-US</dc:language>
  <cp:lastModifiedBy>JY</cp:lastModifiedBy>
  <cp:lastPrinted>2000-10-18T00:23:58Z</cp:lastPrinted>
  <dcterms:modified xsi:type="dcterms:W3CDTF">2007-05-15T15:24:31Z</dcterms:modified>
  <cp:revision>10</cp:revision>
  <dc:subject/>
  <dc:title>No Slide Title</dc:title>
</cp:coreProperties>
</file>